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9B52-5023-4D56-9A19-4AE8CEB228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9195-4ED2-41B9-8033-60B45F99F1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ED3-25D9-42B7-90B4-39D81E86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2EB-6AED-43DA-8412-634C6B3E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9EF-4E7F-43A2-B349-C35FF07F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C36-CCC1-4797-B11A-6F8876C4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44D6-5283-486E-9238-B58081A0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335F-14D0-450D-8D72-7883FA7E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851F-21A1-4D6A-B06B-9DB01BD9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1191-0D6A-4CBB-8B9D-809E59E4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6BEF-4EB3-405A-8B77-EC6A3DCD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8AEA-11D4-42C1-BABC-B74BFF01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CEFB-3133-42FD-87E3-EA55C67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0AA-B78F-41A7-9D60-AAC30CD4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098E-1C5D-4F25-B939-096ACFDB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3B15-144F-4E8C-A781-6D24BA4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E048-D650-4A60-8317-27F4AB90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3443-5D41-4E2E-A49F-403E232E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19FF-0740-4119-BFB4-90DC2508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DD22-ADE4-442D-84CB-7517DBB2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E856-EECB-423C-AA91-83D36046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7D9B-8720-4634-A1D1-FE289F77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1E5E-DF04-4D39-9EB4-B9B62E0C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90810-3C5B-400D-8E1B-3531D22D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04E-2CFB-412F-816E-94D93062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77BA8-B645-4B78-A4FC-FFE00CEB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ABF2-AE06-42A2-AC8B-244BBCB5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AF8D-22B6-465C-B388-9A3F89E7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2F60-625C-4147-A5AE-17B6AAA5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259E-D138-4C67-8E6A-00451158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79FC-F49D-43D1-B1A5-5A0C5461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ECAE7-F58B-40E1-9055-ED46532A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E3D7E-0423-44C6-BC6B-1CBBA857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566D-08EB-45C2-971B-0DF6EEF7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CC14-6297-4CDF-A50B-DD10AE6A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503-BFC5-4D7A-BD2A-B9159317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ECB1B-4A45-4478-B7A8-33CAC0C8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36BF7-BD98-4A79-9C34-9E8A9488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FA00-50A7-4679-8AF6-891EC0CF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A2C6A-E818-42C5-B03D-E98A4042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29053-AB45-4CFC-99B1-B5656969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04BE9-EB61-46B5-99C0-A450116B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FAB21-89C7-4040-81B1-311DB68F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BC60-BEAB-4E51-B943-075516AC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26A8F-2679-4496-A87E-C4DFA5C5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16E0B-A651-4B1D-AA54-53C1C987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9AE-DF13-4D0B-94F4-D05A9855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B819-92B8-40DD-B1B8-CC7DCA70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A7743-F21E-43F2-9146-4A757092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76751-D99B-41CC-B82D-63E5ED6F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0B498-7D81-443D-856A-C3F7B443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96DEA-C1E2-4833-8B0E-65F87FE3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DFDB2-500E-41D0-B65F-56B2C65D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BB0CB-CF03-4F97-9376-BC2F3A4C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95B91-F9E8-4AAD-B397-69862AD1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1CB8D-5143-4E95-984C-9BD15295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7E510-CAD2-4273-8458-B482F678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25A-124A-4261-89D4-E424DC49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E7D59-475E-481F-A9D5-D46F001D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12A-792C-42C8-95CA-9687673E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F0A-22FE-4024-838D-DEEEB6D2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330-0183-4258-8BE4-BCEC99B4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7A81-82BC-4DEF-A0EA-0E16C0AED66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8D8F-40C9-41FF-8F96-03D7F1C218B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89C3-679C-4C63-989E-2B9C604205E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0178-26C9-4D2B-A6C3-EE600AFE0E5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ED3C-3568-4F71-9F7E-3673AA6CCFC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 2\U15_06-07a09.jpg"/>
          <p:cNvPicPr/>
          <p:nvPr/>
        </p:nvPicPr>
        <p:blipFill>
          <a:blip r:embed="rId1"/>
          <a:stretch/>
        </p:blipFill>
        <p:spPr>
          <a:xfrm>
            <a:off x="1332000" y="1000080"/>
            <a:ext cx="6286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5T11:30:34Z</dcterms:modified>
  <cp:revision>36</cp:revision>
  <dc:subject/>
  <dc:title>ТВОРЧЕСКАЯ ДЕЯТЕЛЬНОСТЬ: ЗНАКОМСТВО С ТЕХНИКОЙ ИЗОНИТЬ</dc:title>
</cp:coreProperties>
</file>